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CF9-26F6-471C-993E-C37C205B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61F-12E6-43E8-93F3-92D4668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E8B94-DA0A-45A8-AABD-786F3C91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A2680-AF23-4174-AB5A-3851FA90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AFF21-B557-4BF3-B6F1-EC020C6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43296-388E-4DFE-8503-7DE8DC1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3016-66A7-4C39-A11B-58748834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67B18-1E8A-4CD3-9150-E3118D2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97927-0EC0-4E91-A63B-8009777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FF645-5A34-4B47-9AEF-E59625AF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5E401-CFDC-4D8B-AC86-B547E2B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F6FDD-E0F8-4289-ADAD-FBEBCE43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7BF-A4E4-4DBB-BF1E-FD11403F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79DBD-22B6-4110-BE21-70D7FCAF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926F9-8CF6-4D10-B789-0162A960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5B3E1-7753-4489-AB54-215627A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1FE7D-AFC6-46EF-9487-DF8478D6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EF284-7BAF-4D15-B659-4432FBA0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39AB9-B42B-48F9-82B5-322A04A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E0D89-452F-466F-8D2D-7CFA82E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14B5E-C15F-482E-8588-CCDC4F4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6799A-C77E-4B47-AE72-5CC097E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C87C3-B29E-481D-8F3C-0AB6150E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E70-39A5-4076-B540-ADF7207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BE9DA-F331-43B9-9FB2-37D41D18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64B867-FB95-4391-BFEF-E1A3B24F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CA4838-9322-46E3-BAF8-5FD4CF1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4D6A65-DCAE-4813-AC5A-13DBBE2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A179A2-628E-47DB-8323-3C52AB36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D8EE81-AA55-480F-BE39-21FE8156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DE8730-C959-4638-BB1C-F43F34B5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89FFBF-C9FF-4D2D-B13B-50E7A3D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42ECA4-4AF6-4D7F-A7CF-A9C89EF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C7325E-82C6-4A28-B160-23F2097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541DEA-02DC-46ED-854F-847A0C9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985DDA-B70D-438F-BAD7-7DB99A72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95C832-9EC6-4100-B615-0238A821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214C5-AD28-4950-8812-E7818514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44E9F-3125-49C8-9C1F-3B6B2FD9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7784A-0C4B-4E4D-9C9A-43FEDC7A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BCCD3-0401-4D75-AE55-EF297537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C014D-03DF-4879-A262-FA13E60A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EEE8F-69EB-4320-B14B-A6925A7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298FD-0504-49C3-A74B-E8A97FE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42299-86DB-4CED-9B28-565931A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5660D-1666-476F-A3C3-D8BB2AD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DF7A6-05E2-4B21-B451-70CFAE9B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C8BD1-1B7E-43DF-9294-EE5BDD7A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5CAFE-BA70-4A07-BEA7-BC5C5D2F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246A3B-E6AA-4C76-BAB7-8EB6C6EF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006F54-DEFB-4504-A13E-8D2CEAFF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7CF101-0B15-4796-AABA-C553279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7D9C92-9289-4859-9261-00714CE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44BBB6-9015-417C-94C7-4802A209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FC3180-0430-40C5-B43A-F3B57F1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791043-5213-4A43-9173-4628B21D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BF98B2-4B58-446B-B01D-ED7DE8F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486C25-4975-4E31-9E6F-48348C8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614589-9BC1-4508-99D3-3D65538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7F1006-6506-4B4A-ABE1-2BE02B12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334FEC-F3D1-436D-980A-9AEB078F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DDC36-ED7D-4157-8CA5-035E5024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1B5AA-34BA-4874-BE29-D50F5F73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56DFE-C0DB-42B0-BBD8-B5E6C8BB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44F22-B32D-42C9-B92D-2E20D40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73743-62E0-4F42-BAB5-D0D01A97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67B75-07B1-4A98-BF91-D23283E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42465-8D42-4F0F-B187-61D432A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47111-BEB6-468E-8E1C-1C2928A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D19ED-2059-49AD-940F-0E64C23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F2778-2643-4C92-977D-4D2A339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32902-083D-4E16-8AFD-E1EE9A86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3CB3A-49B6-424D-8921-6DFE68A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911E8-F7D0-4C02-9AA4-4718AAB5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F078C-AD70-4332-B59C-846BEFD1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806B6-62C5-4AD4-8756-B80ADF7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DC787-F355-4202-A7B9-60E0C36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818A6-3D5F-4278-9890-A3FE569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ACDB2-7D90-4E77-8294-F89C9B0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D6AA8-625D-4C46-A085-48E3113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09422-B621-44D1-94A8-681E9F9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7D6EF-E5E0-4F04-A793-4229D92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00726-C857-4E1A-96BB-ACAC0DC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8C82F-23A3-4DB3-A54F-4A6CFAE9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59A8F-5B08-4C9D-850F-47690B81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73265-4F28-43D5-B006-CB360D5C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A4F99-B13E-4308-8EDB-52471D19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CBB84-BBE1-4E43-9B6F-E669238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A64C2-5CA7-423D-B68D-4EF3CE6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B6E55-D41C-4613-997E-C5D94E5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4AED8-9AF6-4F15-93C9-959E810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8AB8A-438A-497F-935C-7AC3B9C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C12-ACCD-4513-9030-D0E0A4BB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C0C93-7760-4C09-9BCD-40CAA580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7BB23-E190-4468-8D83-C4D8EC4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2254B-6FB6-4CD4-ADBF-6346B36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D84F2-5FAC-4E83-BBAA-BF8B7CA8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916DF-24D5-435C-8174-02DA2B93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C6996-C730-4C37-842B-92D724F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7EB2E-BDB1-4FC8-870B-220D76E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67C62-FA7F-4AF1-BF1E-43B4D2E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26A99-A5B1-4807-9E08-5CDA4B3F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64CEB-62F2-44BA-AB7F-A562617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BA24A-72B4-44FC-8CE6-CE6750CA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655B2-69E6-4E59-83ED-544A0672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8B26F-F450-49E9-AD8E-3A956F22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C442D-569C-4213-BFD3-E2B7271A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A1BEA-3A8C-4F79-B17F-69AC555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438BA-6792-412E-89F2-8580D765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7A895-3492-43E2-A522-88672BC8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676E5-4613-4635-A365-445351EC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5BBBD-F0DB-44F2-9534-E1FA01CE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410BF-D6A9-4C36-9487-EE546EB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A9E75-32AA-4FBC-8D58-9FD53790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76A1A-056D-4289-BA15-10FBD8CF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CC75E-F0DF-40D5-B348-F23F34F9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FDCAE-DB10-41A4-A078-FEB7140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4BCF6-1552-4176-B4F1-48FEC73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FC1DF-38D0-4BD3-9BBA-2A03C5D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F3AC2-8E85-41B6-BD60-15C40A09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31DAD-9E51-4784-B09C-26183C79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18D0B-8585-4248-A527-18AD0B3D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1F75F-99AE-4363-AAD7-F6F3FC9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1A8D0-D192-4403-9DFC-B399B9A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1B556-33E0-4B09-AD62-215E238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DF61E9-82DD-4223-917B-8D069340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B8F29-89DE-40E6-9A3C-CD6A102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0BB71-571E-497D-A070-2A5A24C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CC117-015A-49E4-AE8D-4A46272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C44C3-E09D-41AD-966A-703E38A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B999A-4D58-40B8-89B3-ADD16B7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0CB8E-C5F6-4E46-9E36-5A961B8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66906-DB2E-4BAB-BC1A-791EA3FB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B1A1E-3499-483A-BE36-A9EF01F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58E8A-D016-4637-AC4B-718A9110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0C36C-0FD9-4C60-9964-CAB596A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C92C9-81F4-4686-A665-9C39537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39A7D-2202-4619-96C0-D9693F4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3A02B-B173-4543-ADAF-3F24E2B0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00157-9F92-4912-A077-BA5B2F7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862A4-1FD8-4084-9B96-52E5E3C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56C55-7682-4E79-BE4A-85B2B65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07DCD-4B26-47BB-9BE9-80AA3B2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EEB77-2587-40FF-9232-1B49203A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DA34E-AEEC-42E2-A168-E467308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973B1-1462-49FF-90FD-ADC07CBE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1EA18-B08C-43A4-ADE6-E92D0E36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CAA3A-C4FE-4622-B9BB-EE34920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F9266-46A0-400E-9717-BD99D9ED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6501F-4522-40F8-8523-F1DCCE9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6D91B-92BD-49BB-ADC4-63ADD53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A44-7BB7-49F0-94B5-E589C477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1A103-3A00-41A3-AD12-F5497AD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4AA4B-269B-43FD-BBF2-32E7113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36F76-3F7A-4DA7-B783-1D8D7DE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AAF38-DE9A-4E4F-BBAC-93DA0C0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42514-E41C-4295-9272-FF11F8B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A42F5-080D-44B7-8260-31427CB5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6FF30-F41B-4123-BE40-0C3A4330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2A9C4-C1C8-4EF4-A936-963FC7B1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D8D36-23BF-46E6-9CD3-ACEDCC7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95132-07A4-4281-AECA-93B1335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564-AE4A-443C-80BD-6FB9771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B33CF-4511-4DD8-B361-4025E4C7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08BCC-1B40-40AE-8018-9F09AA1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E3CC3-870A-415F-B387-3A0A8AD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2E559-7C42-40D7-AA3D-880EA08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C73A7-DD41-473D-B056-A5A83AD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F8B1A-C9CF-4E9D-A804-12410A9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6FEA7-F5E7-4899-BC2B-0221987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330FE-2A30-4954-9C9E-C2024ACF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67322-AACB-46EF-924D-B916CAD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CA8-AA22-4922-AD3F-2D82A56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2C4-E3F5-46B4-AAE7-D00552F7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1139C-036F-4FF5-A23A-26EB40CF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58477-91CF-4C5F-A5AF-C0ACB0A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AF61E-D28E-40E1-9EEF-82AE6618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88AF0-1335-48FA-A0EF-309EABB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947C5-37B9-4642-8AC3-8472194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021EE-A3C0-42EF-A64A-51418AC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FA8CA-999E-4D28-B01B-399C609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65FEE-EF89-48E3-A5C0-856B2AC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052D3-C860-4DFD-9747-077832B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208-339A-446F-8CED-E3EFB1CC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99BD3-F39B-4DA3-B789-84FC384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54421-22B6-4451-91E6-43B33192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63875-21F7-46BF-8369-1A5AAB96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F6AF27-E095-443F-BC74-53F8E334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80E5D0-B78B-453B-8856-59C4143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B8A89-5070-4BCF-AB73-4F0F2C09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E2066-5357-49A6-B8AA-59452209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33B8C-C8B6-4D75-834C-45FF145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6A344-1E34-4EF1-ACB9-F12AAB4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2B832-1D33-44EA-B32D-68A05F1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57E-CFDC-4C81-8257-803618F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FD9C2-9804-4F77-A59C-BE6A472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CBC6E-1759-49F6-8132-88257DD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FD263-CE03-41DF-9EB4-68179086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F5FDB-7951-4E14-8AE6-CC6E2C5C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616C8-6E1C-4146-BE50-864ED65E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370D9-C4CD-401A-A19F-EA29EE33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E460B-D607-4888-97E2-C1C6F6D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03A0D4-39C8-4CC3-8DFC-A7EE653F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6C4952-0368-4F09-98F6-B6987FC1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1FC54F-E214-4239-A254-3C0B1711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702-388F-4BA2-B212-E2A4877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BF99F-AD54-4185-8F4E-FBFF147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7521A-92D6-402E-A7CD-602AF6F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05932-94A5-4100-8879-61F37F6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16AD98-E597-42DC-BC05-C86D080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210523-C035-4259-B05B-913FAD8E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2D3449-C02E-4311-BD32-A6815DB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29986-7EB1-4F01-B9D3-7265209F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EA399-526F-403D-88FB-D5B7256C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873C4-FFF6-4E60-8A7C-A025615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AD3B7-2C1A-4DC2-B949-6768E251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421-CF3C-48A8-83E7-F6B27D9A098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3CA-934B-42E4-B4DE-58BC718C0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C277-1DF1-4D53-B4C0-CCF9EA7D8B90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598-8774-4767-B642-74A134A43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242C-2948-4BA5-911A-86A84E00ADD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A59-EAC3-40E6-9DAE-A93E9B065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69E-900E-4C0C-84AB-9D5C78ECFFC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1B0-794B-426A-A95F-5A5F14AF9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7B46-9268-44AF-96CE-680CCE7F414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668-B9AD-4D31-AA72-293B9A076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2182-265E-410B-B15A-DEFF7F37173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995-8653-4C4D-A03F-ED2535D17DB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1FB-CD8A-4AE5-9023-A87C3923B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F5C-C8A2-4BEA-9B63-9FE197699E3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849-31B2-432C-A3E2-40DE45CAB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C4E-DC4D-43F8-9582-F6D2AC23FC4A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D38-51BA-4296-9F43-AB4CB140B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9E0-49D4-43B4-BA43-344443F9B968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D5AE-D58E-4DF9-94BE-53B9C6E89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10F9-288D-42F7-BA12-79AC4529B90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3C8-1522-41AF-AAEC-06C9B3ABC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61D-909E-4779-AF5D-AA73AFE29DF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1AD-DB93-42AF-9ED7-9455D691C88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D9E-7EE7-4696-A8E1-873205DC5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F56-BBDD-4969-8EBB-1ED41262692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ABC-B649-4F66-95EF-DB8401F0C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E73-F5B5-4424-9770-D2D90650DAA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EBF-A259-4675-A707-D7C98FC82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5297-447B-40BD-8900-2F5F5F28FF3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36EF-79F2-4C0D-BE7A-4C4F91500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D64-47F4-45C2-9BF6-0E51F9F32A1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FEFB-FBBE-43A6-B3C1-E6387DC9C8F0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07EB-6C36-4C0D-80FB-AAAB93BC9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F73-5FE9-47AF-925F-8421B3095C4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CB3-76B9-4F04-8111-F03FDA02C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4B6-525E-43CC-BECA-0ECABD28780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7CF-0D72-4FC8-8BAF-4AF48F251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7AD-BBFB-402F-A0B9-11E3EC002C3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7219-58A3-456D-83AA-6FF24DED6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480024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66"/>
                </a:solidFill>
                <a:latin typeface="Rockwell"/>
              </a:rPr>
              <a:t>Writing Off and Collecting Accounts Receivable</a:t>
            </a:r>
            <a:endParaRPr b="0" lang="en-US" sz="3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837720"/>
            <a:ext cx="7556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When an account is determined uncollectable, a journal entry must be made to cancel the account. 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870b8"/>
                </a:solidFill>
                <a:latin typeface="Rockwell"/>
              </a:rPr>
              <a:t>(Both the General Ledger and Accounts Receivable Subsidiary Ledger)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This transaction is referred to as </a:t>
            </a:r>
            <a:r>
              <a:rPr b="1" lang="en-US" sz="2100" spc="-1" strike="noStrike" u="sng">
                <a:solidFill>
                  <a:srgbClr val="772399"/>
                </a:solidFill>
                <a:uFillTx/>
                <a:latin typeface="Rockwell"/>
              </a:rPr>
              <a:t>Writing off an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2399"/>
                </a:solidFill>
                <a:latin typeface="Rockwell"/>
              </a:rPr>
              <a:t>This amount is now an </a:t>
            </a:r>
            <a:r>
              <a:rPr b="1" lang="en-US" sz="2100" spc="-1" strike="noStrike" u="sng">
                <a:solidFill>
                  <a:srgbClr val="772399"/>
                </a:solidFill>
                <a:uFillTx/>
                <a:latin typeface="Rockwell"/>
              </a:rPr>
              <a:t>ACTUAL</a:t>
            </a:r>
            <a:r>
              <a:rPr b="1" lang="en-US" sz="2100" spc="-1" strike="noStrike">
                <a:solidFill>
                  <a:srgbClr val="772399"/>
                </a:solidFill>
                <a:latin typeface="Rockwell"/>
              </a:rPr>
              <a:t> uncollectable am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Rockwell"/>
              </a:rPr>
              <a:t>This amount is then deducted from the Allowance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Rockwell"/>
              </a:rPr>
              <a:t>Accounts Receivable / (Customer Account) are credited to reduce the balance or to cancel the debit balance of the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760" y="256680"/>
            <a:ext cx="82310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JOURNALIZING WRITING OFF AN UNCOLLECTIBLE ACCOUNT RECEIVAB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3" name="Picture 4" descr="D:\C21 PowerPoint\Multi_Journal\art for blue\Ch20\Ch20-02a.jpg"/>
          <p:cNvPicPr/>
          <p:nvPr/>
        </p:nvPicPr>
        <p:blipFill>
          <a:blip r:embed="rId1"/>
          <a:srcRect l="28028" t="0" r="662" b="82973"/>
          <a:stretch/>
        </p:blipFill>
        <p:spPr>
          <a:xfrm>
            <a:off x="422280" y="2392200"/>
            <a:ext cx="8264520" cy="22384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7344360" y="7420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"/>
          <p:cNvSpPr/>
          <p:nvPr/>
        </p:nvSpPr>
        <p:spPr>
          <a:xfrm>
            <a:off x="5791320" y="3382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7"/>
          <p:cNvSpPr/>
          <p:nvPr/>
        </p:nvSpPr>
        <p:spPr>
          <a:xfrm>
            <a:off x="7772400" y="4414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8"/>
          <p:cNvSpPr/>
          <p:nvPr/>
        </p:nvSpPr>
        <p:spPr>
          <a:xfrm>
            <a:off x="2819520" y="4414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514440" y="5075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514440" y="54403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and Customer’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3"/>
          <p:cNvSpPr/>
          <p:nvPr/>
        </p:nvSpPr>
        <p:spPr>
          <a:xfrm>
            <a:off x="5486400" y="226224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redit amount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1360" y="167760"/>
            <a:ext cx="82314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3366"/>
                </a:solidFill>
                <a:latin typeface="Rockwell"/>
              </a:rPr>
              <a:t>POSTING AN ENTRY TO WRITE OFF AN UNCOLLECTIBLE ACCOUNT RECEIVABLE</a:t>
            </a:r>
            <a:endParaRPr b="0" lang="en-US" sz="29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22" name="Picture 4" descr="D:\C21 PowerPoint\Multi_Journal\art for blue\Ch20\Ch20-02b.jpg"/>
          <p:cNvPicPr/>
          <p:nvPr/>
        </p:nvPicPr>
        <p:blipFill>
          <a:blip r:embed="rId1"/>
          <a:srcRect l="22756" t="0" r="0" b="37492"/>
          <a:stretch/>
        </p:blipFill>
        <p:spPr>
          <a:xfrm>
            <a:off x="457200" y="1523880"/>
            <a:ext cx="4915080" cy="510552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5"/>
          <p:cNvSpPr/>
          <p:nvPr/>
        </p:nvSpPr>
        <p:spPr>
          <a:xfrm>
            <a:off x="7344360" y="65523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2286000" y="6400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5486400" y="292896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redit amount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5486400" y="16002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ost debit amount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486400" y="3598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ritten of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Group 19"/>
          <p:cNvGrpSpPr/>
          <p:nvPr/>
        </p:nvGrpSpPr>
        <p:grpSpPr>
          <a:xfrm>
            <a:off x="3124080" y="2438280"/>
            <a:ext cx="990720" cy="2819520"/>
            <a:chOff x="3124080" y="2438280"/>
            <a:chExt cx="990720" cy="2819520"/>
          </a:xfrm>
        </p:grpSpPr>
        <p:sp>
          <p:nvSpPr>
            <p:cNvPr id="929" name="Line 15"/>
            <p:cNvSpPr/>
            <p:nvPr/>
          </p:nvSpPr>
          <p:spPr>
            <a:xfrm flipH="1">
              <a:off x="3124080" y="2438280"/>
              <a:ext cx="990720" cy="2819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6"/>
            <p:cNvSpPr/>
            <p:nvPr/>
          </p:nvSpPr>
          <p:spPr>
            <a:xfrm>
              <a:off x="3352680" y="41907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18"/>
          <p:cNvGrpSpPr/>
          <p:nvPr/>
        </p:nvGrpSpPr>
        <p:grpSpPr>
          <a:xfrm>
            <a:off x="3429000" y="2590920"/>
            <a:ext cx="1295280" cy="1295280"/>
            <a:chOff x="3429000" y="2590920"/>
            <a:chExt cx="1295280" cy="1295280"/>
          </a:xfrm>
        </p:grpSpPr>
        <p:sp>
          <p:nvSpPr>
            <p:cNvPr id="932" name="Line 14"/>
            <p:cNvSpPr/>
            <p:nvPr/>
          </p:nvSpPr>
          <p:spPr>
            <a:xfrm flipH="1">
              <a:off x="3429000" y="2590920"/>
              <a:ext cx="1295280" cy="1295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9"/>
            <p:cNvSpPr/>
            <p:nvPr/>
          </p:nvSpPr>
          <p:spPr>
            <a:xfrm>
              <a:off x="4191120" y="2666880"/>
              <a:ext cx="457200" cy="456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21"/>
          <p:cNvGrpSpPr/>
          <p:nvPr/>
        </p:nvGrpSpPr>
        <p:grpSpPr>
          <a:xfrm>
            <a:off x="4419720" y="2590560"/>
            <a:ext cx="533160" cy="3809880"/>
            <a:chOff x="4419720" y="2590560"/>
            <a:chExt cx="533160" cy="3809880"/>
          </a:xfrm>
        </p:grpSpPr>
        <p:sp>
          <p:nvSpPr>
            <p:cNvPr id="935" name="Line 17"/>
            <p:cNvSpPr/>
            <p:nvPr/>
          </p:nvSpPr>
          <p:spPr>
            <a:xfrm flipV="1">
              <a:off x="4419720" y="2590560"/>
              <a:ext cx="457200" cy="3809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7"/>
            <p:cNvSpPr/>
            <p:nvPr/>
          </p:nvSpPr>
          <p:spPr>
            <a:xfrm>
              <a:off x="4495680" y="3657600"/>
              <a:ext cx="457200" cy="456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opening An Account Previously Written Off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366840" y="2133720"/>
            <a:ext cx="831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 customer will pay on a account that has been written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Journal Entries are recorded for the collection of a written off account receiv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A general journal entry to reopen the customer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A cash receipts journal entry to record the cash receiv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OPENING AN ACCOUNT PREVIOUSLY WRITTEN OFF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40" name="Picture 4" descr="D:\C21 PowerPoint\Multi_Journal\art for blue\Ch20\Ch20-02c.jpg"/>
          <p:cNvPicPr/>
          <p:nvPr/>
        </p:nvPicPr>
        <p:blipFill>
          <a:blip r:embed="rId1"/>
          <a:srcRect l="28028" t="0" r="668" b="73390"/>
          <a:stretch/>
        </p:blipFill>
        <p:spPr>
          <a:xfrm>
            <a:off x="457200" y="2163600"/>
            <a:ext cx="8229600" cy="3483000"/>
          </a:xfrm>
          <a:prstGeom prst="rect">
            <a:avLst/>
          </a:prstGeom>
          <a:ln w="0">
            <a:noFill/>
          </a:ln>
        </p:spPr>
      </p:pic>
      <p:sp>
        <p:nvSpPr>
          <p:cNvPr id="941" name="Text Box 5"/>
          <p:cNvSpPr/>
          <p:nvPr/>
        </p:nvSpPr>
        <p:spPr>
          <a:xfrm>
            <a:off x="7344360" y="71920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7"/>
          <p:cNvSpPr/>
          <p:nvPr/>
        </p:nvSpPr>
        <p:spPr>
          <a:xfrm>
            <a:off x="777240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514440" y="574524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and Customer’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0"/>
          <p:cNvSpPr/>
          <p:nvPr/>
        </p:nvSpPr>
        <p:spPr>
          <a:xfrm>
            <a:off x="514440" y="6110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13"/>
          <p:cNvGrpSpPr/>
          <p:nvPr/>
        </p:nvGrpSpPr>
        <p:grpSpPr>
          <a:xfrm>
            <a:off x="4267080" y="2163600"/>
            <a:ext cx="2819520" cy="1371600"/>
            <a:chOff x="4267080" y="2163600"/>
            <a:chExt cx="2819520" cy="1371600"/>
          </a:xfrm>
        </p:grpSpPr>
        <p:sp>
          <p:nvSpPr>
            <p:cNvPr id="946" name="Line 11"/>
            <p:cNvSpPr/>
            <p:nvPr/>
          </p:nvSpPr>
          <p:spPr>
            <a:xfrm>
              <a:off x="6934320" y="2620800"/>
              <a:ext cx="0" cy="914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2"/>
            <p:cNvSpPr/>
            <p:nvPr/>
          </p:nvSpPr>
          <p:spPr>
            <a:xfrm flipH="1">
              <a:off x="4267080" y="2468520"/>
              <a:ext cx="24386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6553080" y="2163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73"/>
          <p:cNvSpPr/>
          <p:nvPr/>
        </p:nvSpPr>
        <p:spPr>
          <a:xfrm>
            <a:off x="579600" y="5105520"/>
            <a:ext cx="429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049480"/>
                <a:tab algn="dec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74"/>
          <p:cNvSpPr/>
          <p:nvPr/>
        </p:nvSpPr>
        <p:spPr>
          <a:xfrm>
            <a:off x="4853160" y="4021200"/>
            <a:ext cx="429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2049480"/>
                <a:tab algn="dec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2049480"/>
                <a:tab algn="dec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ew Bal.      ze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9"/>
          <p:cNvGrpSpPr/>
          <p:nvPr/>
        </p:nvGrpSpPr>
        <p:grpSpPr>
          <a:xfrm>
            <a:off x="4495680" y="2854440"/>
            <a:ext cx="4648320" cy="1619280"/>
            <a:chOff x="4495680" y="2854440"/>
            <a:chExt cx="4648320" cy="1619280"/>
          </a:xfrm>
        </p:grpSpPr>
        <p:sp>
          <p:nvSpPr>
            <p:cNvPr id="952" name="Text Box 63"/>
            <p:cNvSpPr/>
            <p:nvPr/>
          </p:nvSpPr>
          <p:spPr>
            <a:xfrm>
              <a:off x="4846680" y="4010040"/>
              <a:ext cx="42973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365120"/>
                  <a:tab algn="l" pos="2049480"/>
                  <a:tab algn="dec" pos="3432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Jan. 29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462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72"/>
            <p:cNvGrpSpPr/>
            <p:nvPr/>
          </p:nvGrpSpPr>
          <p:grpSpPr>
            <a:xfrm>
              <a:off x="4495680" y="2854440"/>
              <a:ext cx="4648320" cy="1619280"/>
              <a:chOff x="4495680" y="2854440"/>
              <a:chExt cx="4648320" cy="1619280"/>
            </a:xfrm>
          </p:grpSpPr>
          <p:sp>
            <p:nvSpPr>
              <p:cNvPr id="954" name="Text Box 62"/>
              <p:cNvSpPr/>
              <p:nvPr/>
            </p:nvSpPr>
            <p:spPr>
              <a:xfrm>
                <a:off x="4846680" y="3768840"/>
                <a:ext cx="42973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365120"/>
                    <a:tab algn="l" pos="2049480"/>
                    <a:tab algn="dec" pos="34322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462.00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Jan. 3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462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" name="Group 70"/>
              <p:cNvGrpSpPr/>
              <p:nvPr/>
            </p:nvGrpSpPr>
            <p:grpSpPr>
              <a:xfrm>
                <a:off x="4495680" y="2854440"/>
                <a:ext cx="4343400" cy="1619280"/>
                <a:chOff x="4495680" y="2854440"/>
                <a:chExt cx="4343400" cy="1619280"/>
              </a:xfrm>
            </p:grpSpPr>
            <p:sp>
              <p:nvSpPr>
                <p:cNvPr id="956" name="Text Box 13"/>
                <p:cNvSpPr/>
                <p:nvPr/>
              </p:nvSpPr>
              <p:spPr>
                <a:xfrm>
                  <a:off x="4495680" y="2854440"/>
                  <a:ext cx="434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cc0000"/>
                      </a:solidFill>
                      <a:latin typeface="Arial"/>
                    </a:rPr>
                    <a:t>ACCOUNTS RECEIVABLE LED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Group 68"/>
                <p:cNvGrpSpPr/>
                <p:nvPr/>
              </p:nvGrpSpPr>
              <p:grpSpPr>
                <a:xfrm>
                  <a:off x="4876920" y="3087720"/>
                  <a:ext cx="3659040" cy="1386000"/>
                  <a:chOff x="4876920" y="3087720"/>
                  <a:chExt cx="3659040" cy="1386000"/>
                </a:xfrm>
              </p:grpSpPr>
              <p:sp>
                <p:nvSpPr>
                  <p:cNvPr id="958" name="Text Box 17"/>
                  <p:cNvSpPr/>
                  <p:nvPr/>
                </p:nvSpPr>
                <p:spPr>
                  <a:xfrm>
                    <a:off x="5974200" y="3087720"/>
                    <a:ext cx="1422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ennis Castl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9" name="Group 67"/>
                  <p:cNvGrpSpPr/>
                  <p:nvPr/>
                </p:nvGrpSpPr>
                <p:grpSpPr>
                  <a:xfrm>
                    <a:off x="4876920" y="3559320"/>
                    <a:ext cx="3659040" cy="914400"/>
                    <a:chOff x="4876920" y="3559320"/>
                    <a:chExt cx="3659040" cy="914400"/>
                  </a:xfrm>
                </p:grpSpPr>
                <p:sp>
                  <p:nvSpPr>
                    <p:cNvPr id="960" name="Line 19"/>
                    <p:cNvSpPr/>
                    <p:nvPr/>
                  </p:nvSpPr>
                  <p:spPr>
                    <a:xfrm>
                      <a:off x="4876920" y="3559320"/>
                      <a:ext cx="365904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Line 20"/>
                    <p:cNvSpPr/>
                    <p:nvPr/>
                  </p:nvSpPr>
                  <p:spPr>
                    <a:xfrm>
                      <a:off x="6707160" y="3559320"/>
                      <a:ext cx="0" cy="91440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RECORDING CASH RECEIVED FOR AN ACCOUNT PREVIOUSLY WRITTEN OFF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228600" y="1143000"/>
            <a:ext cx="8458200" cy="580680"/>
          </a:xfrm>
          <a:prstGeom prst="rect">
            <a:avLst/>
          </a:prstGeom>
          <a:gradFill rotWithShape="0">
            <a:gsLst>
              <a:gs pos="0">
                <a:srgbClr val="bc5fb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29. Received cash in full payment of Ryan Recreation’s account, previously written off as uncollectible, $462.00. Memorandum No. 3 and Receipt No. 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457200" y="194616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7373880" y="1940040"/>
            <a:ext cx="129528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6"/>
          <p:cNvSpPr/>
          <p:nvPr/>
        </p:nvSpPr>
        <p:spPr>
          <a:xfrm>
            <a:off x="5697360" y="194616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639960" y="194616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457200" y="376560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9"/>
          <p:cNvSpPr/>
          <p:nvPr/>
        </p:nvSpPr>
        <p:spPr>
          <a:xfrm>
            <a:off x="215280" y="36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0"/>
          <p:cNvSpPr/>
          <p:nvPr/>
        </p:nvSpPr>
        <p:spPr>
          <a:xfrm flipV="1">
            <a:off x="8597160" y="362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4816440" y="3551400"/>
            <a:ext cx="37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496800" y="3551400"/>
            <a:ext cx="41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9"/>
          <p:cNvSpPr/>
          <p:nvPr/>
        </p:nvSpPr>
        <p:spPr>
          <a:xfrm>
            <a:off x="496800" y="4530600"/>
            <a:ext cx="41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30"/>
          <p:cNvSpPr/>
          <p:nvPr/>
        </p:nvSpPr>
        <p:spPr>
          <a:xfrm flipV="1">
            <a:off x="4633200" y="487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77"/>
          <p:cNvGrpSpPr/>
          <p:nvPr/>
        </p:nvGrpSpPr>
        <p:grpSpPr>
          <a:xfrm>
            <a:off x="46080" y="2895480"/>
            <a:ext cx="4754520" cy="2971800"/>
            <a:chOff x="46080" y="2895480"/>
            <a:chExt cx="4754520" cy="2971800"/>
          </a:xfrm>
        </p:grpSpPr>
        <p:sp>
          <p:nvSpPr>
            <p:cNvPr id="976" name="Text Box 61"/>
            <p:cNvSpPr/>
            <p:nvPr/>
          </p:nvSpPr>
          <p:spPr>
            <a:xfrm>
              <a:off x="122040" y="5103720"/>
              <a:ext cx="42973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600200"/>
                  <a:tab algn="l" pos="2049480"/>
                  <a:tab algn="dec" pos="3773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Jan. 29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462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71"/>
            <p:cNvGrpSpPr/>
            <p:nvPr/>
          </p:nvGrpSpPr>
          <p:grpSpPr>
            <a:xfrm>
              <a:off x="46080" y="2895480"/>
              <a:ext cx="4754520" cy="2971800"/>
              <a:chOff x="46080" y="2895480"/>
              <a:chExt cx="4754520" cy="2971800"/>
            </a:xfrm>
          </p:grpSpPr>
          <p:grpSp>
            <p:nvGrpSpPr>
              <p:cNvPr id="978" name="Group 69"/>
              <p:cNvGrpSpPr/>
              <p:nvPr/>
            </p:nvGrpSpPr>
            <p:grpSpPr>
              <a:xfrm>
                <a:off x="380880" y="2895480"/>
                <a:ext cx="4281120" cy="2383920"/>
                <a:chOff x="380880" y="2895480"/>
                <a:chExt cx="4281120" cy="2383920"/>
              </a:xfrm>
            </p:grpSpPr>
            <p:sp>
              <p:nvSpPr>
                <p:cNvPr id="979" name="Text Box 32"/>
                <p:cNvSpPr/>
                <p:nvPr/>
              </p:nvSpPr>
              <p:spPr>
                <a:xfrm>
                  <a:off x="1341360" y="2895480"/>
                  <a:ext cx="2314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cc0000"/>
                      </a:solidFill>
                      <a:latin typeface="Arial"/>
                    </a:rPr>
                    <a:t>GENERAL LED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0" name="Group 33"/>
                <p:cNvGrpSpPr/>
                <p:nvPr/>
              </p:nvGrpSpPr>
              <p:grpSpPr>
                <a:xfrm>
                  <a:off x="380880" y="3109680"/>
                  <a:ext cx="4266360" cy="1004760"/>
                  <a:chOff x="380880" y="3109680"/>
                  <a:chExt cx="4266360" cy="1004760"/>
                </a:xfrm>
              </p:grpSpPr>
              <p:sp>
                <p:nvSpPr>
                  <p:cNvPr id="981" name="Text Box 34"/>
                  <p:cNvSpPr/>
                  <p:nvPr/>
                </p:nvSpPr>
                <p:spPr>
                  <a:xfrm>
                    <a:off x="2008800" y="3109680"/>
                    <a:ext cx="6548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as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2" name="Group 35"/>
                  <p:cNvGrpSpPr/>
                  <p:nvPr/>
                </p:nvGrpSpPr>
                <p:grpSpPr>
                  <a:xfrm>
                    <a:off x="380880" y="3580920"/>
                    <a:ext cx="4266360" cy="533520"/>
                    <a:chOff x="380880" y="3580920"/>
                    <a:chExt cx="4266360" cy="533520"/>
                  </a:xfrm>
                </p:grpSpPr>
                <p:sp>
                  <p:nvSpPr>
                    <p:cNvPr id="983" name="Line 36"/>
                    <p:cNvSpPr/>
                    <p:nvPr/>
                  </p:nvSpPr>
                  <p:spPr>
                    <a:xfrm>
                      <a:off x="380880" y="3580920"/>
                      <a:ext cx="42663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Line 37"/>
                    <p:cNvSpPr/>
                    <p:nvPr/>
                  </p:nvSpPr>
                  <p:spPr>
                    <a:xfrm>
                      <a:off x="2513880" y="358092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5" name="Group 64"/>
                <p:cNvGrpSpPr/>
                <p:nvPr/>
              </p:nvGrpSpPr>
              <p:grpSpPr>
                <a:xfrm>
                  <a:off x="395280" y="4095360"/>
                  <a:ext cx="4266720" cy="1184040"/>
                  <a:chOff x="395280" y="4095360"/>
                  <a:chExt cx="4266720" cy="1184040"/>
                </a:xfrm>
              </p:grpSpPr>
              <p:sp>
                <p:nvSpPr>
                  <p:cNvPr id="986" name="Text Box 45"/>
                  <p:cNvSpPr/>
                  <p:nvPr/>
                </p:nvSpPr>
                <p:spPr>
                  <a:xfrm>
                    <a:off x="1313640" y="4095360"/>
                    <a:ext cx="2079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ccounts Receivabl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7" name="Group 46"/>
                  <p:cNvGrpSpPr/>
                  <p:nvPr/>
                </p:nvGrpSpPr>
                <p:grpSpPr>
                  <a:xfrm>
                    <a:off x="395280" y="4552560"/>
                    <a:ext cx="4266720" cy="726840"/>
                    <a:chOff x="395280" y="4552560"/>
                    <a:chExt cx="4266720" cy="726840"/>
                  </a:xfrm>
                </p:grpSpPr>
                <p:sp>
                  <p:nvSpPr>
                    <p:cNvPr id="988" name="Line 47"/>
                    <p:cNvSpPr/>
                    <p:nvPr/>
                  </p:nvSpPr>
                  <p:spPr>
                    <a:xfrm>
                      <a:off x="395280" y="4552560"/>
                      <a:ext cx="42667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Line 48"/>
                    <p:cNvSpPr/>
                    <p:nvPr/>
                  </p:nvSpPr>
                  <p:spPr>
                    <a:xfrm>
                      <a:off x="2528640" y="4552560"/>
                      <a:ext cx="0" cy="726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0" name="Text Box 49"/>
              <p:cNvSpPr/>
              <p:nvPr/>
            </p:nvSpPr>
            <p:spPr>
              <a:xfrm>
                <a:off x="46080" y="4800240"/>
                <a:ext cx="4754520" cy="10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0200"/>
                    <a:tab algn="l" pos="2049480"/>
                    <a:tab algn="dec" pos="3773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72,458.          Jan. 3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   462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" name="Text Box 5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Picture 60" descr="D:\C21 PowerPoint\Multi_Journal\art for blue\Ch20\Ch20-02d.jpg"/>
          <p:cNvPicPr/>
          <p:nvPr/>
        </p:nvPicPr>
        <p:blipFill>
          <a:blip r:embed="rId1"/>
          <a:srcRect l="3448" t="0" r="0" b="85282"/>
          <a:stretch/>
        </p:blipFill>
        <p:spPr>
          <a:xfrm>
            <a:off x="457200" y="5562720"/>
            <a:ext cx="670572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804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66"/>
                </a:solidFill>
                <a:latin typeface="Rockwell"/>
              </a:rPr>
              <a:t>POSTING ENTRIES FOR COLLECTING A WRITTEN-OFF ACCOUNT RECEIVABLE</a:t>
            </a:r>
            <a:endParaRPr b="0" lang="en-US" sz="30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94" name="Picture 4" descr="D:\C21 PowerPoint\Multi_Journal\art for blue\Ch20\Ch20-02e.jpg"/>
          <p:cNvPicPr/>
          <p:nvPr/>
        </p:nvPicPr>
        <p:blipFill>
          <a:blip r:embed="rId1"/>
          <a:srcRect l="13349" t="0" r="0" b="29963"/>
          <a:stretch/>
        </p:blipFill>
        <p:spPr>
          <a:xfrm>
            <a:off x="76320" y="1371600"/>
            <a:ext cx="5127480" cy="541980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5"/>
          <p:cNvSpPr/>
          <p:nvPr/>
        </p:nvSpPr>
        <p:spPr>
          <a:xfrm>
            <a:off x="7344360" y="64000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7"/>
          <p:cNvSpPr/>
          <p:nvPr/>
        </p:nvSpPr>
        <p:spPr>
          <a:xfrm>
            <a:off x="1165320" y="5334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20"/>
          <p:cNvGrpSpPr/>
          <p:nvPr/>
        </p:nvGrpSpPr>
        <p:grpSpPr>
          <a:xfrm>
            <a:off x="3124080" y="5715000"/>
            <a:ext cx="762120" cy="838080"/>
            <a:chOff x="3124080" y="5715000"/>
            <a:chExt cx="762120" cy="838080"/>
          </a:xfrm>
        </p:grpSpPr>
        <p:sp>
          <p:nvSpPr>
            <p:cNvPr id="998" name="Line 14"/>
            <p:cNvSpPr/>
            <p:nvPr/>
          </p:nvSpPr>
          <p:spPr>
            <a:xfrm flipV="1">
              <a:off x="3124080" y="5715000"/>
              <a:ext cx="76212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Oval 8"/>
            <p:cNvSpPr/>
            <p:nvPr/>
          </p:nvSpPr>
          <p:spPr>
            <a:xfrm>
              <a:off x="3352680" y="59436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24"/>
          <p:cNvGrpSpPr/>
          <p:nvPr/>
        </p:nvGrpSpPr>
        <p:grpSpPr>
          <a:xfrm>
            <a:off x="2742840" y="2133720"/>
            <a:ext cx="1676880" cy="2286000"/>
            <a:chOff x="2742840" y="2133720"/>
            <a:chExt cx="1676880" cy="2286000"/>
          </a:xfrm>
        </p:grpSpPr>
        <p:grpSp>
          <p:nvGrpSpPr>
            <p:cNvPr id="1001" name="Group 19"/>
            <p:cNvGrpSpPr/>
            <p:nvPr/>
          </p:nvGrpSpPr>
          <p:grpSpPr>
            <a:xfrm>
              <a:off x="3429000" y="2209680"/>
              <a:ext cx="990720" cy="2210040"/>
              <a:chOff x="3429000" y="2209680"/>
              <a:chExt cx="990720" cy="2210040"/>
            </a:xfrm>
          </p:grpSpPr>
          <p:sp>
            <p:nvSpPr>
              <p:cNvPr id="1002" name="Line 17"/>
              <p:cNvSpPr/>
              <p:nvPr/>
            </p:nvSpPr>
            <p:spPr>
              <a:xfrm flipH="1">
                <a:off x="3429000" y="2209680"/>
                <a:ext cx="990720" cy="22100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9"/>
              <p:cNvSpPr/>
              <p:nvPr/>
            </p:nvSpPr>
            <p:spPr>
              <a:xfrm>
                <a:off x="396252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2b14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23"/>
            <p:cNvGrpSpPr/>
            <p:nvPr/>
          </p:nvGrpSpPr>
          <p:grpSpPr>
            <a:xfrm>
              <a:off x="2742840" y="2133720"/>
              <a:ext cx="1219320" cy="1066680"/>
              <a:chOff x="2742840" y="2133720"/>
              <a:chExt cx="1219320" cy="1066680"/>
            </a:xfrm>
          </p:grpSpPr>
          <p:sp>
            <p:nvSpPr>
              <p:cNvPr id="1005" name="Line 15"/>
              <p:cNvSpPr/>
              <p:nvPr/>
            </p:nvSpPr>
            <p:spPr>
              <a:xfrm flipH="1">
                <a:off x="2742840" y="2133720"/>
                <a:ext cx="12193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6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2b14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Group 22"/>
          <p:cNvGrpSpPr/>
          <p:nvPr/>
        </p:nvGrpSpPr>
        <p:grpSpPr>
          <a:xfrm>
            <a:off x="3580920" y="2133720"/>
            <a:ext cx="533880" cy="3352680"/>
            <a:chOff x="3580920" y="2133720"/>
            <a:chExt cx="533880" cy="3352680"/>
          </a:xfrm>
        </p:grpSpPr>
        <p:sp>
          <p:nvSpPr>
            <p:cNvPr id="1008" name="Line 16"/>
            <p:cNvSpPr/>
            <p:nvPr/>
          </p:nvSpPr>
          <p:spPr>
            <a:xfrm flipH="1">
              <a:off x="3580920" y="2133720"/>
              <a:ext cx="381240" cy="3352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Oval 21"/>
            <p:cNvSpPr/>
            <p:nvPr/>
          </p:nvSpPr>
          <p:spPr>
            <a:xfrm>
              <a:off x="3733920" y="2438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Text Box 13"/>
          <p:cNvSpPr/>
          <p:nvPr/>
        </p:nvSpPr>
        <p:spPr>
          <a:xfrm>
            <a:off x="5086440" y="30733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general journal entry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86440" y="37418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op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2"/>
          <p:cNvSpPr/>
          <p:nvPr/>
        </p:nvSpPr>
        <p:spPr>
          <a:xfrm>
            <a:off x="5086440" y="44197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ash receipts journal entry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5086440" y="2411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ost general journal entry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7:50:47Z</dcterms:created>
  <dc:creator>Mary Colleen McLaughlin</dc:creator>
  <dc:description/>
  <dc:language>en-US</dc:language>
  <cp:lastModifiedBy>David Combs</cp:lastModifiedBy>
  <dcterms:modified xsi:type="dcterms:W3CDTF">2011-10-03T19:48:05Z</dcterms:modified>
  <cp:revision>66</cp:revision>
  <dc:subject/>
  <dc:title>ADJUSTING ENTRY FOR SUPPLIES</dc:title>
</cp:coreProperties>
</file>